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F34-12A3-41D0-BD69-53CECD0C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7F4-F851-4725-9A81-09D73FE6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4E4-C3E7-4C6C-8808-73CB5889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5C0-3688-4461-B0FA-3A2DAFE2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7C3-9C9C-425B-BA57-22E0B023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9FF-05CD-45B5-8863-C16FB3FA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E786-ADA8-479F-B017-0F4DC3C3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8B04-21E4-461D-AC19-F20399C1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19B-B981-4ACE-AB77-C3DAD31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F59-7271-4F9B-82EB-31C1887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BD0A-55BC-483E-A94A-717362D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411-7C3D-4F03-B77A-124F74D9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B18-997F-4EAC-8A08-42AF91FD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41C-724F-4DBE-A4C6-1F456CA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101-2D9D-401D-BC6D-3752E180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492-617E-4E16-9844-5073F9DF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7853-7CCF-4FF5-959D-B4B4C2E3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DC8-B152-4D49-B2F8-30AC1C0F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6E3-70F4-4102-BE33-D6BB25E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EDA-1221-4B79-BB20-EA278615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AA6-EDD2-4E31-890F-3AECFCA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962-29EF-47D0-B153-D670A80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BCE-CD29-43AC-9970-7449E69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51B-A20F-4C80-97CE-F89396A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3960" y="523800"/>
            <a:ext cx="438120" cy="5446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6640" y="523800"/>
            <a:ext cx="328680" cy="54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7800" y="946080"/>
            <a:ext cx="422280" cy="544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47880" y="946080"/>
            <a:ext cx="368280" cy="54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873000"/>
            <a:ext cx="560520" cy="484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8480" y="415800"/>
            <a:ext cx="31680" cy="12081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9520" y="1206360"/>
            <a:ext cx="822636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B65A-02CE-435B-AEAE-F33759EAE5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AEA-3369-4899-9E4C-EB656B83AF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810720"/>
            <a:ext cx="709128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anel on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Web Services Security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ASSIS’0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79320" y="3579840"/>
            <a:ext cx="6530760" cy="28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co Cremonini, University of Mi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édric Fournet, Microsoft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y Gordon, Microsoft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l Kearney, BT La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 O’Neill, Vor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rgit Pfitzmann, IBM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Sorry Tale of Alan Rals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3692520"/>
            <a:ext cx="7812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v’02: ex-con bankrupt, turned spam millionaire, Alan Ralsky, 57, gives gloating interview, “sends a billion emails per da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days, Net vigilantes find his address, subscribe him to 1000s of catalogues, mailing list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weeks, getting 100s of kgs of junk daily, can’t find real mail: “These people are…harassing 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1000" y="1506600"/>
            <a:ext cx="1587240" cy="201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811" t="14763" r="14764" b="14763"/>
          <a:stretch/>
        </p:blipFill>
        <p:spPr>
          <a:xfrm>
            <a:off x="3351240" y="1509840"/>
            <a:ext cx="28875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8320" y="1514520"/>
            <a:ext cx="2086200" cy="20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E60-8800-4231-B174-9FC1333BD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205160"/>
            <a:ext cx="3683160" cy="1016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Feature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002: Byers, Rubin, Kormann spell out how web services would help automate a Ralsky-style atta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ry “request catalogue name address postcod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gram visits each page, submits victim’s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Security Proble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cale of attacks possible when a physical process is exposed to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 solution is for vendor to use a “human test”, a problem easy for humans, hard for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little incentive for individual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expect more such problems to emerg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C26-C186-4792-8DEB-06D3444AAF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are w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the minimum requirement for a Web Service? Is FTP-ing XML across the network an example of Web Service usag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w that web services are rather widely deployed, what sorts of security issues are actually aris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exibility of mechanism is essential for interoperability, but is the enemy of security.  How do we get the balance righ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30C-3463-4539-BC9F-6F99E60E98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round 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WS-* the new CORBA or is it the new ED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 Semantic Web technologies fit in with Web Services security, if at a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WS-Security give SOAP an advantage over competitors like XML-RPC or R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677-8926-4A06-BD68-8047161DF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hea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sues need to be addressed by further resear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a good motivating scenario you use to direct your resear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features might we expect in an XML firewa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ter Kriens: What lessons are we ignor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2DE-BE33-4CB0-97E6-8977AE5FB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56:09Z</dcterms:created>
  <dc:creator>Andy Gordon</dc:creator>
  <dc:description/>
  <dc:language>en-US</dc:language>
  <cp:lastModifiedBy>Andy Gordon</cp:lastModifiedBy>
  <dcterms:modified xsi:type="dcterms:W3CDTF">2005-03-16T18:27:12Z</dcterms:modified>
  <cp:revision>233</cp:revision>
  <dc:subject/>
  <dc:title>A Semantics for Web Services Security</dc:title>
</cp:coreProperties>
</file>