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F477-90CE-4544-B93B-E23F2D5F3E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FD2A-C1B6-4150-92E6-0E02A67D57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*** DEMO 2 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5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292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5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292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6DFEA-277D-477D-8B4E-5AF7204F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B0B07-D3A0-49E6-BE51-6D420B4B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C2DB4-1AB4-4AAB-A545-CF528D60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CE34D-ADF9-4C56-998E-1AAF591A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9BB85-090C-47B0-BFD9-119EF8D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7932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69119-034B-434A-B1CA-2E3320B6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67602-D97A-44EF-8C36-4A7EBD2F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B08D9-63B2-4014-9A33-0083A5EF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07E36-F1DA-4115-8298-61CBBC6E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CD53C-1DFA-4868-9B18-568E839C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BFAD0-9BC8-4594-86D2-1ECD0CB7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5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292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5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292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CD258-015A-42CE-9E3F-603473B7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99D02-0F50-4B6A-AA51-B01F8847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ED526-E588-4C65-A940-EFF815D5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EE937-AFDD-44FE-9528-81BF917D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1FF32-12C4-4F37-9998-5895FC73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3BA09-CB17-4093-9F9A-EEE3999E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7932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01558-C0F7-4CAD-9F08-82B3660C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2685F-8830-49C2-A51A-F4E816FF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4F4E8-259C-45FE-B036-B81E7B0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1D2CF-0433-4A22-95B2-81491DA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CC51D-BCFF-49A8-8AB0-71A25984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CEB2D-E92A-48CE-B82F-99C43B55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15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4292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15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4292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3B05C-B955-444D-9E61-9CFAAD06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7932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9520" y="1206360"/>
            <a:ext cx="822636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1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21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CC21-F65D-4E67-B847-A68EA4475676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352260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206A-E903-41E8-A47F-5087C4A69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2760" y="1953720"/>
            <a:ext cx="832464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assis, March 8</a:t>
            </a:r>
            <a:r>
              <a:rPr b="0" lang="en-US" sz="18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2005</a:t>
            </a:r>
            <a:br>
              <a:rPr sz="1800"/>
            </a:br>
            <a:br>
              <a:rPr sz="2000"/>
            </a:br>
            <a:r>
              <a:rPr b="1" lang="en-US" sz="5000" spc="-1" strike="noStrike">
                <a:solidFill>
                  <a:srgbClr val="ff0000"/>
                </a:solidFill>
                <a:latin typeface="Tahoma"/>
              </a:rPr>
              <a:t>Formal Tools for 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Tahoma"/>
              </a:rPr>
              <a:t>Web Services Security</a:t>
            </a:r>
            <a:br>
              <a:rPr sz="4200"/>
            </a:br>
            <a:endParaRPr b="0" lang="en-US" sz="5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55120" y="3271680"/>
            <a:ext cx="8147160" cy="27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édric Fou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crosoft Research, Cambri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int work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arthik Bhargavan, Andy Gordon, Greg O’Shea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iccardo Pucella, Ricardo Corin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53880" y="6362640"/>
            <a:ext cx="838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MSRC Samoa: Details, papers, tools, pointers at http://Securing.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460680"/>
            <a:ext cx="1701720" cy="2011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XML Rewriting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35000" y="2879640"/>
            <a:ext cx="3045960" cy="1311120"/>
            <a:chOff x="1035000" y="2879640"/>
            <a:chExt cx="3045960" cy="13111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035000" y="2879640"/>
              <a:ext cx="30459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132200" y="2949840"/>
              <a:ext cx="287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ookshop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Buy Charlie’s book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31760" y="4245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ice’s lap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57960" y="3571920"/>
            <a:ext cx="1886040" cy="2139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30320" y="4363920"/>
            <a:ext cx="1936800" cy="1800"/>
          </a:xfrm>
          <a:prstGeom prst="line">
            <a:avLst/>
          </a:prstGeom>
          <a:ln w="76320">
            <a:solidFill>
              <a:srgbClr val="0064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67680" y="43387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ice’s booksh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eb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86080" y="5572080"/>
            <a:ext cx="2324160" cy="1077840"/>
          </a:xfrm>
          <a:prstGeom prst="rect">
            <a:avLst/>
          </a:prstGeom>
          <a:solidFill>
            <a:srgbClr val="f2de64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3320" y="5608800"/>
            <a:ext cx="19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e n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harli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44800" y="4344840"/>
            <a:ext cx="6480" cy="1078200"/>
          </a:xfrm>
          <a:prstGeom prst="line">
            <a:avLst/>
          </a:prstGeom>
          <a:ln w="76320">
            <a:solidFill>
              <a:srgbClr val="0064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27480" y="3760920"/>
            <a:ext cx="1927440" cy="9360"/>
          </a:xfrm>
          <a:prstGeom prst="line">
            <a:avLst/>
          </a:prstGeom>
          <a:ln w="76320">
            <a:solidFill>
              <a:srgbClr val="0064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099040" y="4341960"/>
            <a:ext cx="6480" cy="1077840"/>
          </a:xfrm>
          <a:prstGeom prst="line">
            <a:avLst/>
          </a:prstGeom>
          <a:ln w="76320">
            <a:solidFill>
              <a:srgbClr val="0064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894200" y="1819440"/>
            <a:ext cx="3223800" cy="1521360"/>
            <a:chOff x="4894200" y="1819440"/>
            <a:chExt cx="3223800" cy="1521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4894200" y="1819440"/>
              <a:ext cx="3223800" cy="10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997160" y="1875240"/>
              <a:ext cx="3047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Sent: Mon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ank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Pay Charlie $2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64200" y="2103480"/>
            <a:ext cx="3079440" cy="1661760"/>
            <a:chOff x="6064200" y="2103480"/>
            <a:chExt cx="3079440" cy="166176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6064200" y="2103480"/>
              <a:ext cx="3079440" cy="16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162480" y="2192400"/>
              <a:ext cx="2910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Sent: Tues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ank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Buy Charlie’s book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594320" y="2525760"/>
            <a:ext cx="3038040" cy="1636200"/>
            <a:chOff x="4594320" y="2525760"/>
            <a:chExt cx="3038040" cy="1636200"/>
          </a:xfrm>
        </p:grpSpPr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>
              <a:off x="4594320" y="2525760"/>
              <a:ext cx="3038040" cy="16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691160" y="2613240"/>
              <a:ext cx="2871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  <a:ea typeface="Arial"/>
                </a:rPr>
                <a:t>Sent: Wednes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ookshop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Buy Charlie’s book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116680" y="4363920"/>
            <a:ext cx="1938240" cy="1800"/>
          </a:xfrm>
          <a:prstGeom prst="line">
            <a:avLst/>
          </a:prstGeom>
          <a:ln w="76320">
            <a:solidFill>
              <a:srgbClr val="0064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" y="1531800"/>
            <a:ext cx="401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ter and replay envelop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confus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 Signed SOAP Message Before..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28560" y="1755720"/>
            <a:ext cx="7512120" cy="371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Token Id=2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&gt;Alice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Nonce&gt;cGxr8w2AnBUzuhLzDYDoVw=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Created&gt;2003-02-04T16:49:45Z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ed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Reference URI= #1&gt;&lt;DigestValue&gt;Ego0...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Value&gt;vSB9JU/Wr8ykpAlaxCx2KdvjZcc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Key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TokenReference&gt;&lt;Reference URI=#2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ody Id=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TransferFun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eneficiary&gt;Bob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amount&gt;1000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59120" y="1413000"/>
            <a:ext cx="3370320" cy="1027080"/>
          </a:xfrm>
          <a:prstGeom prst="wedgeRoundRectCallout">
            <a:avLst>
              <a:gd name="adj1" fmla="val -72092"/>
              <a:gd name="adj2" fmla="val 38870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 to bank’s web service says: “Transfer $1000 to Bob, signed Al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42120" y="2568600"/>
            <a:ext cx="2754360" cy="1539720"/>
          </a:xfrm>
          <a:prstGeom prst="wedgeRoundRectCallout">
            <a:avLst>
              <a:gd name="adj1" fmla="val -63027"/>
              <a:gd name="adj2" fmla="val 36287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k can verify the signature has been computed using key derived from Alice’s secret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119320" y="3922560"/>
            <a:ext cx="1387440" cy="743040"/>
          </a:xfrm>
          <a:prstGeom prst="line">
            <a:avLst/>
          </a:prstGeom>
          <a:ln w="76320">
            <a:solidFill>
              <a:srgbClr val="ffcf01">
                <a:alpha val="57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9567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d After an XML Rewriting Atta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28560" y="1755720"/>
            <a:ext cx="7512120" cy="47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Token Id=2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&gt;Alice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Nonce&gt;cGxr8w2AnBUzuhLzDYDoVw=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Created&gt;2003-02-04T16:49:45Z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ed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Reference URI= #1&gt;&lt;DigestValue&gt;Ego0...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Value&gt;vSB9JU/Wr8ykpAlaxCx2KdvjZcc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Key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TokenReference&gt;&lt;Reference URI=#2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Bogus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ody Id=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TransferFun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eneficiary&gt;Bob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amount&gt;1000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TransferFun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beneficiary&gt;Charlie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amount&gt;5000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0520" y="4816440"/>
            <a:ext cx="3112920" cy="1757520"/>
          </a:xfrm>
          <a:prstGeom prst="wedgeRoundRectCallout">
            <a:avLst>
              <a:gd name="adj1" fmla="val -108236"/>
              <a:gd name="adj2" fmla="val 15041"/>
              <a:gd name="adj3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hough Alice’s password has not been broken, the message now reads “Transfer $5000 to Charlie, signed Al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9120" y="1424160"/>
            <a:ext cx="3369960" cy="811080"/>
          </a:xfrm>
          <a:prstGeom prst="wedgeRoundRectCallout">
            <a:avLst>
              <a:gd name="adj1" fmla="val -84856"/>
              <a:gd name="adj2" fmla="val 47652"/>
              <a:gd name="adj3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lie has intercepted and rewritten this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73880" y="2400480"/>
            <a:ext cx="3216240" cy="1272960"/>
          </a:xfrm>
          <a:prstGeom prst="wedgeRoundRectCallout">
            <a:avLst>
              <a:gd name="adj1" fmla="val -94273"/>
              <a:gd name="adj2" fmla="val 46134"/>
              <a:gd name="adj3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indirect signature of the body, now hidden in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ogusHeader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may still appear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67160" y="3922560"/>
            <a:ext cx="939600" cy="846360"/>
          </a:xfrm>
          <a:prstGeom prst="line">
            <a:avLst/>
          </a:prstGeom>
          <a:ln w="76320">
            <a:solidFill>
              <a:srgbClr val="ffcf01">
                <a:alpha val="57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469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ong History of Atta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6720" y="1844640"/>
            <a:ext cx="1008360" cy="647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6360" y="1844640"/>
            <a:ext cx="1008000" cy="647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20720" y="3213000"/>
            <a:ext cx="1008360" cy="6476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2563920"/>
            <a:ext cx="57600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13080" y="2563920"/>
            <a:ext cx="57456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9600" y="1700280"/>
            <a:ext cx="4443480" cy="210168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assume that an intruder can interpose a computer on all communication paths, and thus can alter or copy parts of messages, replay messages, or emit false materi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this may seem an extreme view, it is the only safe one when designing authentication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Needham and Schroeder CACM (197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60" y="407664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78: N&amp;S propose authentication protocols for “large networks of compu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81: Denning and Sacco find attack found on N&amp;S symmetric key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83: Dolev and Yao first formalize secrecy properties wrt N&amp;S threat model, using formal alg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87: Burrows, Abadi, Needham invent authentication logic; neither sound nor complete, but use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4: Hickman (Netscape) invents SSL; holes in v2, but v3 fixes these, very widely de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4: Ylonen invents SSH; holes in first versions, now very widely de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5: Abadi, Anderson, Needham, et al propose various informal “robustness princip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5: Lowe finds insider attack on N&amp;S asymmetric protocol; rejuvenates interest in F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irca 1999: Several FMs for “D&amp;Y problem”: tradeoff between accuracy and approx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irca 2004: Many FMs now developed; several deliver both accuracy and auto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 Calculus &amp;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lner, Parrow, Walker (198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utation is name-pass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etween parallel processes 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amed channels.  Each nam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s a mobile scop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i calculus: Pi + cryptographic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rations (Abadi Gordon 1999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bile scopes can repres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cal keys and fresh no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es represent protocol configu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exts represent active attac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lied Pi: Pi + equational theory (Abadi Fournet 2001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is a generally-useful theory (equivalences, proof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ing tools such as ProVerif (Blanchet 2001—), we can mix manual and automated proofs for various security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54640" y="1582560"/>
            <a:ext cx="3517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amoa Project, Brief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95672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f misconfigured or mis-implemented, WS-Security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tocols vulnerable to XML rewriting atta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ulaFale — shows the absence of such attack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given a description of the protoc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rst analysis tool for XML-based crypto protoc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utomatic analysis of hand-written models vi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pplied pi calculus and Bruno Blanchet’s ProVerif t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olicy generator/analyzer — produces TulaFal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rom declarative XML policy files that drive WSE 2.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nce, can directly analyze WSE 2.0 configu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rst source-based formal verification of interoperable implementations of crypto protoc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olicy advisor — runs 35+ queries for security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rrors found in reviews of sample polic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flipH="1">
            <a:off x="6420960" y="5070600"/>
            <a:ext cx="3240" cy="653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424200" y="421632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ulaFale: a language for WS-Se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580392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K, 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o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1960" y="3699000"/>
            <a:ext cx="3165480" cy="289080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SE 1.0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out of th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2408400"/>
            <a:ext cx="3578400" cy="420660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hat TulaFale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7520" y="5546880"/>
            <a:ext cx="1322640" cy="98892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62120" y="593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A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5386320"/>
            <a:ext cx="1738440" cy="50652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SE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13280" y="5753160"/>
            <a:ext cx="1816200" cy="6778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Verif Analyz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[B. Blanche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26000" y="4073400"/>
            <a:ext cx="1846440" cy="51624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12920" y="4641840"/>
            <a:ext cx="6480" cy="700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205400" y="334008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46320" y="3357720"/>
            <a:ext cx="3240" cy="653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28640" y="4375080"/>
            <a:ext cx="1417680" cy="54936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#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3720" y="2938320"/>
            <a:ext cx="1182960" cy="73512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70720" y="2941560"/>
            <a:ext cx="1368360" cy="72540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ic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4520" y="4900680"/>
            <a:ext cx="2805120" cy="48240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mediate pi-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8320" y="1596960"/>
            <a:ext cx="328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designed TulaFale, a programming language to model WSE protocols and hand-wrote models for a series of WSE protocol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POPL’04, FMCO’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87720" y="1554120"/>
            <a:ext cx="501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 + XML + predicates + asse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936880" y="3465000"/>
            <a:ext cx="2236680" cy="121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673440" y="3676680"/>
            <a:ext cx="3149640" cy="18064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A Secure RP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typical system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ngle certification authority (CA) issuing X.509 public-key certificates for services, signed with the CA's private k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wo servers, each equipped with a public key certified by the CA and exporting an arbitrary number of web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ultiple clients, acting on behalf of human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reat model: an active attacker, in control of network, but knowing none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ivate key of the 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ivate key of any public key certified by the 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assword of any user in the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curity goals: authentication of each message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d correlation of request and response; but not confidenti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84080" y="727200"/>
            <a:ext cx="1562400" cy="5508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lient(kr,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716040"/>
            <a:ext cx="2004840" cy="5493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er(sx,cert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558440" y="2216160"/>
            <a:ext cx="5133960" cy="4032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59080" y="1309680"/>
            <a:ext cx="1404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8600" y="1281240"/>
            <a:ext cx="3240" cy="307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8120" y="3868560"/>
            <a:ext cx="5005440" cy="873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52720" y="2303640"/>
            <a:ext cx="25621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id1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86040" y="4024440"/>
            <a:ext cx="28004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2(-,S,id1,id2,t2,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8960" y="1541520"/>
            <a:ext cx="28540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14920" y="2814480"/>
            <a:ext cx="2646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0200" y="3368520"/>
            <a:ext cx="3779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,b1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3400" y="4857840"/>
            <a:ext cx="35892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,b1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4080" y="185760"/>
            <a:ext cx="71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 intended run of the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720" y="5740560"/>
            <a:ext cx="321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sg 1 includes signature of S,id1,t1,b1 under key derived from username token for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21240" y="5743440"/>
            <a:ext cx="28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sg 2 includes signature of id1,id2,t2,b2 under public key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i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XML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edicate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63720" y="1741320"/>
            <a:ext cx="6594480" cy="3922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653160" y="2778120"/>
            <a:ext cx="2548080" cy="16185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this predicate is us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wo way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nstruct and parse Mess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05400" y="5054760"/>
            <a:ext cx="3027240" cy="100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messages are terms in a many-sorted algebra with so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28840" y="2365200"/>
            <a:ext cx="3027600" cy="1313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predicates defined by Horn clauses with messag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8120" y="6145200"/>
            <a:ext cx="18446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starting point (200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parallel trends over past five yea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apid invention and deployment of XML-based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rypto protocols for securing web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exible message formats for inter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ables home-grown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w crypto protocols are often wrong, XML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stained and successful effort to develop formalisms and tools to verify crypto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Dolev&amp;Yao, BAN,) FDR, Athena, Isabelle, ProVerif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 MSRC: spi, sjoin, Cryptyc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pplied pi calculu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ly opportunity to develop tools for validating standards-based XML crypto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i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XML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edicate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32040" y="1778040"/>
            <a:ext cx="7251480" cy="4219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824360" y="3130560"/>
            <a:ext cx="2584440" cy="16185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library includes predefined predicates for XML signatures and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5122800"/>
            <a:ext cx="3113280" cy="1313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this predicate uses these predicates to check structure of Mess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i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XML+predicates+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3240" y="4829040"/>
            <a:ext cx="79646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mplicit attacker, running in parallel, ca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and receive on the soap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rbitrarily many users an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e arbitrarily many s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60480" y="1774800"/>
            <a:ext cx="75070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41400" y="2112840"/>
            <a:ext cx="5853240" cy="35625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i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XML+predicates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5589720" y="1469880"/>
            <a:ext cx="3379680" cy="1313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sending a message on init, the attacker can pick any payload and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81560" y="5487840"/>
            <a:ext cx="4608360" cy="100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r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nt to accept a message as 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2857680"/>
            <a:ext cx="3541680" cy="100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gin-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r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nt to send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9440" y="4314960"/>
            <a:ext cx="6045120" cy="703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s are exchanged on a public SOAP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TulaFale Demo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6787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omatic verification of following reachability and safety properties via TulaFale/ProVer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487520" y="4844880"/>
            <a:ext cx="4579920" cy="11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97240" y="701640"/>
            <a:ext cx="2004840" cy="549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14880" y="12668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4080" y="727200"/>
            <a:ext cx="1562400" cy="5508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lient(kr,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716040"/>
            <a:ext cx="2004840" cy="5493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er(sx,cert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558440" y="2246040"/>
            <a:ext cx="5064120" cy="168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59080" y="1309680"/>
            <a:ext cx="1404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08600" y="12812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36880" y="2070000"/>
            <a:ext cx="163008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1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4413240" y="4012920"/>
            <a:ext cx="2155680" cy="212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4080" y="185760"/>
            <a:ext cx="71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uppose a client does not sign the message identifie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58960" y="1541520"/>
            <a:ext cx="28540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14920" y="2725560"/>
            <a:ext cx="2646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51080" y="3235320"/>
            <a:ext cx="1322640" cy="988920"/>
          </a:xfrm>
          <a:prstGeom prst="flowChart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1:=id2, Re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00520" y="3575160"/>
            <a:ext cx="16304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2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72080" y="4384800"/>
            <a:ext cx="2646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2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90880" y="2146320"/>
            <a:ext cx="716040" cy="441360"/>
          </a:xfrm>
          <a:prstGeom prst="flowChart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9720" y="590868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ir (id1,t1) uniquely identifies the message only if id1 and t1 are 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found and fixed faults like this in preliminary WSE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97240" y="701640"/>
            <a:ext cx="2004840" cy="549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4880" y="12668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4080" y="727200"/>
            <a:ext cx="1562400" cy="5508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lient(kr,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716040"/>
            <a:ext cx="2004840" cy="5493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er(sx,cert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1558440" y="1458720"/>
            <a:ext cx="5064120" cy="168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59080" y="1309680"/>
            <a:ext cx="1404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08600" y="12812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94080" y="2201400"/>
            <a:ext cx="2305080" cy="360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21120" y="2274840"/>
            <a:ext cx="17208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2(-,S,id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2,t2,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80040" y="1722600"/>
            <a:ext cx="3779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,b1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040" y="4971960"/>
            <a:ext cx="37087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’,b1’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03400" y="5865840"/>
            <a:ext cx="68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client doesn’t generate fresh id1’s, then message correlation (C2) fails; the tool easily finds this 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1558800" y="3548160"/>
            <a:ext cx="2625840" cy="209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47760" y="1352520"/>
            <a:ext cx="16304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1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54080" y="3303720"/>
            <a:ext cx="16304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1,t1’,b1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33800" y="3557520"/>
            <a:ext cx="388800" cy="4032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549440" y="4113000"/>
            <a:ext cx="2471760" cy="41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43080" y="4157640"/>
            <a:ext cx="17208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2(-,S,id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2,t2,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563840" y="2592360"/>
            <a:ext cx="2552400" cy="471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36760" y="2471760"/>
            <a:ext cx="100008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AP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55800" y="1468440"/>
            <a:ext cx="277560" cy="1579680"/>
          </a:xfrm>
          <a:custGeom>
            <a:avLst/>
            <a:gdLst>
              <a:gd name="textAreaLeft" fmla="*/ 177480 w 277560"/>
              <a:gd name="textAreaRight" fmla="*/ 277920 w 277560"/>
              <a:gd name="textAreaTop" fmla="*/ 41040 h 1579680"/>
              <a:gd name="textAreaBottom" fmla="*/ 1538640 h 157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7840" y="2063880"/>
            <a:ext cx="8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3435480"/>
            <a:ext cx="304920" cy="1218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42840" y="355752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2,   re-using i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19400" y="2379600"/>
            <a:ext cx="389160" cy="4032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40" y="111240"/>
            <a:ext cx="30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at else might go wro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 TulaFale Summer Case Stud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68560" y="1528920"/>
            <a:ext cx="7387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S-Security provides basic mechanisms to secure SOAP traffic, one messag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gning and encryption keys derived from long-lived secrets like passwords or private k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a SOAP interaction consists of multiple, related messages, WS-Security alone may be inefficient, and does not secure session integ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idea: establish short-lived session k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ent specs describe this idea at the SOAP-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S-SecureConversati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efin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ecurity contex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used to secure sessions between two pa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S-Trus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efines how security contexts are issued and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ical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793880" y="2631960"/>
            <a:ext cx="1362240" cy="70812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02400" y="1440000"/>
            <a:ext cx="1519200" cy="7365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24360" y="4162320"/>
            <a:ext cx="1519560" cy="7365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23960" y="1890720"/>
            <a:ext cx="3157560" cy="714240"/>
          </a:xfrm>
          <a:custGeom>
            <a:avLst/>
            <a:gdLst/>
            <a:ahLst/>
            <a:rect l="l" t="t" r="r" b="b"/>
            <a:pathLst>
              <a:path w="1989" h="450">
                <a:moveTo>
                  <a:pt x="0" y="450"/>
                </a:moveTo>
                <a:lnTo>
                  <a:pt x="0" y="0"/>
                </a:lnTo>
                <a:lnTo>
                  <a:pt x="198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52880" y="2162160"/>
            <a:ext cx="3143160" cy="728640"/>
          </a:xfrm>
          <a:custGeom>
            <a:avLst/>
            <a:gdLst/>
            <a:ahLst/>
            <a:rect l="l" t="t" r="r" b="b"/>
            <a:pathLst>
              <a:path w="1980" h="459">
                <a:moveTo>
                  <a:pt x="1980" y="0"/>
                </a:moveTo>
                <a:lnTo>
                  <a:pt x="1980" y="459"/>
                </a:lnTo>
                <a:lnTo>
                  <a:pt x="0" y="45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95520" y="3382920"/>
            <a:ext cx="3186000" cy="979560"/>
          </a:xfrm>
          <a:custGeom>
            <a:avLst/>
            <a:gdLst/>
            <a:ahLst/>
            <a:rect l="l" t="t" r="r" b="b"/>
            <a:pathLst>
              <a:path w="2007" h="783">
                <a:moveTo>
                  <a:pt x="0" y="0"/>
                </a:moveTo>
                <a:lnTo>
                  <a:pt x="0" y="783"/>
                </a:lnTo>
                <a:lnTo>
                  <a:pt x="2007" y="7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48000" y="14828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94320" y="24271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RS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00640" y="398772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“Session Exchang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24840" y="1747800"/>
            <a:ext cx="244440" cy="2700360"/>
          </a:xfrm>
          <a:custGeom>
            <a:avLst/>
            <a:gdLst/>
            <a:ahLst/>
            <a:rect l="l" t="t" r="r" b="b"/>
            <a:pathLst>
              <a:path w="352" h="1701">
                <a:moveTo>
                  <a:pt x="0" y="0"/>
                </a:moveTo>
                <a:cubicBezTo>
                  <a:pt x="58" y="142"/>
                  <a:pt x="350" y="572"/>
                  <a:pt x="351" y="855"/>
                </a:cubicBezTo>
                <a:cubicBezTo>
                  <a:pt x="352" y="1138"/>
                  <a:pt x="80" y="1525"/>
                  <a:pt x="9" y="170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24680" y="2647800"/>
            <a:ext cx="743040" cy="781200"/>
          </a:xfrm>
          <a:prstGeom prst="flowChartMagneticDisk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etter"/>
          <p:cNvSpPr/>
          <p:nvPr/>
        </p:nvSpPr>
        <p:spPr>
          <a:xfrm>
            <a:off x="4797360" y="2478240"/>
            <a:ext cx="1052640" cy="733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56200" y="2749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32080" y="3379680"/>
            <a:ext cx="3351240" cy="1116000"/>
          </a:xfrm>
          <a:custGeom>
            <a:avLst/>
            <a:gdLst/>
            <a:ahLst/>
            <a:rect l="l" t="t" r="r" b="b"/>
            <a:pathLst>
              <a:path w="2007" h="783">
                <a:moveTo>
                  <a:pt x="0" y="0"/>
                </a:moveTo>
                <a:lnTo>
                  <a:pt x="0" y="783"/>
                </a:lnTo>
                <a:lnTo>
                  <a:pt x="2007" y="7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25800" y="3381480"/>
            <a:ext cx="3557520" cy="1482480"/>
          </a:xfrm>
          <a:custGeom>
            <a:avLst/>
            <a:gdLst/>
            <a:ahLst/>
            <a:rect l="l" t="t" r="r" b="b"/>
            <a:pathLst>
              <a:path w="2007" h="783">
                <a:moveTo>
                  <a:pt x="0" y="0"/>
                </a:moveTo>
                <a:lnTo>
                  <a:pt x="0" y="783"/>
                </a:lnTo>
                <a:lnTo>
                  <a:pt x="2007" y="7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27360" y="4444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67160" y="3176640"/>
            <a:ext cx="685800" cy="557280"/>
          </a:xfrm>
          <a:prstGeom prst="wedgeEllipseCallout">
            <a:avLst>
              <a:gd name="adj1" fmla="val -92361"/>
              <a:gd name="adj2" fmla="val -4629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953480" y="1276200"/>
            <a:ext cx="250560" cy="2057400"/>
          </a:xfrm>
          <a:custGeom>
            <a:avLst/>
            <a:gdLst>
              <a:gd name="textAreaLeft" fmla="*/ 0 w 250560"/>
              <a:gd name="textAreaRight" fmla="*/ 90360 w 250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15200" y="2117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9160" y="36972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3062160"/>
            <a:ext cx="312840" cy="2000520"/>
          </a:xfrm>
          <a:custGeom>
            <a:avLst/>
            <a:gdLst>
              <a:gd name="textAreaLeft" fmla="*/ 199800 w 312840"/>
              <a:gd name="textAreaRight" fmla="*/ 313200 w 312840"/>
              <a:gd name="textAreaTop" fmla="*/ 51840 h 2000520"/>
              <a:gd name="textAreaBottom" fmla="*/ 1948680 h 200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33640" y="5224320"/>
            <a:ext cx="3422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S = Security Toke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T = Request Security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TR = R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78640" y="5237280"/>
            <a:ext cx="244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 = Security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T = SC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-Ended Convers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810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55560" y="1681200"/>
            <a:ext cx="1687680" cy="3538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92440" y="1681200"/>
            <a:ext cx="1606680" cy="352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503000" y="3171960"/>
            <a:ext cx="1971720" cy="201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82840" y="2055960"/>
            <a:ext cx="0" cy="326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527280" y="2070000"/>
            <a:ext cx="7920" cy="2670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469880" y="4420800"/>
            <a:ext cx="2022480" cy="157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89120" y="2730600"/>
            <a:ext cx="138564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908440" y="3470400"/>
            <a:ext cx="117612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11320" y="3924360"/>
            <a:ext cx="135108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’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71640" y="4660920"/>
            <a:ext cx="105732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’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14480" y="2133720"/>
            <a:ext cx="1027080" cy="782640"/>
          </a:xfrm>
          <a:prstGeom prst="wedgeEllipseCallout">
            <a:avLst>
              <a:gd name="adj1" fmla="val -93277"/>
              <a:gd name="adj2" fmla="val -3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20960" y="2496960"/>
            <a:ext cx="814680" cy="835200"/>
          </a:xfrm>
          <a:prstGeom prst="wedgeEllipseCallout">
            <a:avLst>
              <a:gd name="adj1" fmla="val -72222"/>
              <a:gd name="adj2" fmla="val 5722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3680" y="2343240"/>
            <a:ext cx="1036440" cy="3006720"/>
          </a:xfrm>
          <a:custGeom>
            <a:avLst/>
            <a:gdLst/>
            <a:ahLst/>
            <a:rect l="l" t="t" r="r" b="b"/>
            <a:pathLst>
              <a:path w="899" h="3025">
                <a:moveTo>
                  <a:pt x="883" y="0"/>
                </a:moveTo>
                <a:cubicBezTo>
                  <a:pt x="757" y="89"/>
                  <a:pt x="250" y="95"/>
                  <a:pt x="125" y="532"/>
                </a:cubicBezTo>
                <a:cubicBezTo>
                  <a:pt x="0" y="969"/>
                  <a:pt x="5" y="2215"/>
                  <a:pt x="134" y="2620"/>
                </a:cubicBezTo>
                <a:cubicBezTo>
                  <a:pt x="263" y="3025"/>
                  <a:pt x="740" y="2891"/>
                  <a:pt x="899" y="2962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40240" y="2274840"/>
            <a:ext cx="1528560" cy="2405160"/>
          </a:xfrm>
          <a:custGeom>
            <a:avLst/>
            <a:gdLst/>
            <a:ahLst/>
            <a:rect l="l" t="t" r="r" b="b"/>
            <a:pathLst>
              <a:path w="930" h="2241">
                <a:moveTo>
                  <a:pt x="9" y="0"/>
                </a:moveTo>
                <a:cubicBezTo>
                  <a:pt x="119" y="60"/>
                  <a:pt x="531" y="63"/>
                  <a:pt x="666" y="360"/>
                </a:cubicBezTo>
                <a:cubicBezTo>
                  <a:pt x="801" y="657"/>
                  <a:pt x="930" y="1469"/>
                  <a:pt x="819" y="1782"/>
                </a:cubicBezTo>
                <a:cubicBezTo>
                  <a:pt x="686" y="2144"/>
                  <a:pt x="171" y="2146"/>
                  <a:pt x="0" y="2241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78720" y="51181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for 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49440" y="155700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ove authentication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 s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rely on some combination of manual and automated proo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68200" y="1528560"/>
            <a:ext cx="7521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rst formal analysis of WS-Trust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S-SecureConver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syntax and automation very effectiv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ainst a demanding, realistic attack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x 1000 lines of script – too large for manual proo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is common, these spe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message formats for interoper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non-committal regarding securi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no clear spec of contents of S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aking modes, data, and goals explicit, we found design and implementation bu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94400" y="3492360"/>
            <a:ext cx="844560" cy="87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’s a Web Servic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07960" y="1743120"/>
            <a:ext cx="453708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b service is a web site intended for use by computer programs instead of human beings.”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arclay et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XML not 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5840" y="1554120"/>
            <a:ext cx="1795320" cy="1960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11360" y="3774960"/>
            <a:ext cx="8091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essages in SOAP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elope/Header – addressing, security,                             and transactional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elope/Body – actual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etadata in WSDL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SOAP endpoint, list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operation, request and respons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745400" y="3365640"/>
            <a:ext cx="1198440" cy="688680"/>
            <a:chOff x="7745400" y="3365640"/>
            <a:chExt cx="1198440" cy="6886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7745400" y="3365640"/>
              <a:ext cx="11984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783560" y="3402360"/>
              <a:ext cx="113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27800" y="3095640"/>
            <a:ext cx="963720" cy="588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39080" y="4417920"/>
            <a:ext cx="950760" cy="48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186680" y="3723840"/>
            <a:ext cx="743040" cy="7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03960" y="3976560"/>
            <a:ext cx="1370160" cy="689040"/>
            <a:chOff x="6303960" y="3976560"/>
            <a:chExt cx="1370160" cy="68904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6303960" y="3976560"/>
              <a:ext cx="13701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348600" y="4013280"/>
              <a:ext cx="12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Policy-Based Security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1976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7280" y="156816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s, services use XML files to pick security mechanis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ted in same IIS virtual director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 protocols to use for different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 declarative description of deployed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look at messy C#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nalyze policy files collected from client and serv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get them wr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policies are insec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ation of policies may have unexpected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1492200" y="2027160"/>
            <a:ext cx="76960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Policy Id=“Msg1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&lt;Al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Confidential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TokenInf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SecurityToke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TokenType&gt;X509v3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Claims&gt;&lt;SubjectName&gt;S&lt;/&gt;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MessageParts&gt;Body()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Integr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TokenInf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SecurityToke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TokenType&gt;UsernameToken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Claims&gt;&lt;SubjectName&gt;U&lt;/&gt;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MessageParts&gt;Body() Header("To") Header("MessageId”)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alyzing Policy Configur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server"/>
          <p:cNvSpPr/>
          <p:nvPr/>
        </p:nvSpPr>
        <p:spPr>
          <a:xfrm>
            <a:off x="5167440" y="1857240"/>
            <a:ext cx="2070000" cy="4038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0760" y="2460600"/>
            <a:ext cx="990360" cy="26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’s p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’s pw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03720" y="4067280"/>
            <a:ext cx="1219320" cy="74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03720" y="4811760"/>
            <a:ext cx="119232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omputr1"/>
          <p:cNvSpPr/>
          <p:nvPr/>
        </p:nvSpPr>
        <p:spPr>
          <a:xfrm>
            <a:off x="1522440" y="2009880"/>
            <a:ext cx="1828800" cy="1447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81120" y="2552760"/>
            <a:ext cx="77328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’s p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98600" y="2311560"/>
            <a:ext cx="993960" cy="48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98600" y="2793960"/>
            <a:ext cx="99396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30760" y="170496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03720" y="2009880"/>
            <a:ext cx="1192320" cy="74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03720" y="2754360"/>
            <a:ext cx="119232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30600" y="1552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74920" y="3000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omputr1"/>
          <p:cNvSpPr/>
          <p:nvPr/>
        </p:nvSpPr>
        <p:spPr>
          <a:xfrm>
            <a:off x="1522440" y="4143240"/>
            <a:ext cx="1828800" cy="1447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81120" y="4686480"/>
            <a:ext cx="77328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’s p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98600" y="4444920"/>
            <a:ext cx="99396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98600" y="4927680"/>
            <a:ext cx="993960" cy="48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5880" y="3838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74920" y="51339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18120" y="505764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3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93840" y="521028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4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17520" y="307656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1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18120" y="300024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2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9680" y="600408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utomated tools for collecting, parsing policies from IIS Servers,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fig = [Policy1, Policy2, Policy3, Policy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delling Security Polic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153120" y="592920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K, 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o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867800" y="3571920"/>
            <a:ext cx="111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ic w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4680" y="3538440"/>
            <a:ext cx="3330360" cy="321156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SE 2.0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out of th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34040" y="1562040"/>
            <a:ext cx="4632120" cy="517860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                              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hat our tools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6120" y="5540400"/>
            <a:ext cx="1322280" cy="98892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0720" y="5927760"/>
            <a:ext cx="12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A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95840" y="5557680"/>
            <a:ext cx="1558800" cy="9892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er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pi calcu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22760" y="5388120"/>
            <a:ext cx="1846440" cy="5158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51000" y="4786200"/>
            <a:ext cx="6480" cy="700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09000" y="3478320"/>
            <a:ext cx="4680" cy="695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711160" y="4452840"/>
            <a:ext cx="20520" cy="860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717880" y="466236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203600" y="468792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7880" y="4191120"/>
            <a:ext cx="1166760" cy="78876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#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08880" y="4268880"/>
            <a:ext cx="1931760" cy="73476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(C(L),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83200" y="4264200"/>
            <a:ext cx="1368360" cy="72540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ic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08800" y="3125880"/>
            <a:ext cx="1800000" cy="48744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ze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(-,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0720" y="1725480"/>
            <a:ext cx="329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WSE 2.0, WS-SecurityPolicy files drive security; hence, we can generate TulaFale directly from implementation fil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CCS’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048120" y="3575160"/>
            <a:ext cx="3360600" cy="1063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57720" y="3263760"/>
            <a:ext cx="1222200" cy="903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00720" y="2786040"/>
            <a:ext cx="1841400" cy="5158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to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356080" y="2192400"/>
            <a:ext cx="115920" cy="56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95480" y="4192560"/>
            <a:ext cx="1739880" cy="81612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licy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C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56200" y="2239920"/>
            <a:ext cx="1041480" cy="776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53080" y="1719360"/>
            <a:ext cx="1803240" cy="68112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r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105000" y="4830840"/>
            <a:ext cx="1913040" cy="7365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15960" y="5380200"/>
            <a:ext cx="1738440" cy="50616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S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Security for All Generated Configs?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orem: All policy configurations generated from link specs enforce their security go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ll link specifications L, S(C(L),L) provides request &amp; response authentication, correlation, and secre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nce, at least generated configs can be safely deploy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on-obvious: there are infinitely-many link spe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 combination of automated proofs and manual reas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int 1: Reduce to 4 base kinds of link-generated poli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int 2: Prove that configs with all links enabled is sec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programmed unfoldings in the pi calcul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Security for Any Client Policy?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95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orem: If a service uses a link-generated policy, then irrespective of the client policies, the resulting configuration preserves request authentication and response secre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nce, naïve clients cannot break service authent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of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ation of automated proofs and manual reas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Even the weakest send policy preser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recy of passwords and signing k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Policy Advisor Demo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7280" y="140184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b services security specs encourage extrem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ssage formats, composable protocols, configu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ecs and implementations are only just emerg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ttacks and proofs are subtle: tool support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bridge the gap between theoretical pi threat mode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nd XML as used in WS security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ut effort into real samples &amp; implementations, found bu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btained theorems about wire-level protoc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ploited automation for authentication &amp; secrecy prope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develop tools for the automated analysis o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for deployed systems based on crypto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ving protocols secure in isolation is not enoug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r tools find attacks, verify configs, generate safe confi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ood place to develop formal tools, get positive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ndard message formats, composition, wide applic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811080" y="6451560"/>
            <a:ext cx="7591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Details, papers, tools, pointers at http://Securing.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ample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754200" y="1714680"/>
            <a:ext cx="786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soap:Envelope xmlns:soap="http://schemas.xmlsoap.org/soap/envelope/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mlns:xsi="http://www.w3.org/2001/XMLSchema-instanc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mlns:xsd="http://www.w3.org/2001/XMLSchema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GetOrder xmlns="http://microsoft.com/petsh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OrderId&gt;20&lt;/order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/Get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/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/soap: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66920" y="49165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: “get me status of order 2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ample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54200" y="1714680"/>
            <a:ext cx="786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Get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OrderId&gt;20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66920" y="49165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: “get me status of order 2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not meant to be read by humans, so we’ll omit namespace info, and trailing bracke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754200" y="1714680"/>
            <a:ext cx="786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Action&gt;http://bookshop/ws/OrderStatus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To&gt;http://www.bookshop.com/ws/orderstatus.asmx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MessageId&gt;uuid:5ba86b04-3c0f-428b-8dd6-17804286fe40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Get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OrderId&gt;20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66920" y="49165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al headers tell SOAP process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o do with the envelope (automat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 Services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AP level security aims to provide end-to-end, compositional application-level security, independently of transpor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esh stand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Road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-Security, May 2004 (Draft: Apr 200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-Trust, WS-SecureConversation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-SecurityPolicy,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grammar for SOAP-based security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utomated processing of security hea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formal semantics except for XML synt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tokens = wire format for claims and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eys, certificates, x509 signatures, Kerberos tickets,…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68400" y="1467000"/>
            <a:ext cx="6289920" cy="5204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ecur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UsernameToken Id=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Username&gt;“Alic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Nonce&gt;"mTbzQM84RkFqza+lIes/xw==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Created&gt;"2004-09-01T13:31:50Z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ignatur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SignedInf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SignatureMethod Algorithm=hmac-sha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Reference URI=#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      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DigestValue&gt;"U9sBHidIkVvKA4vZo0gGKxMhA1g=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ignatureValue&gt;"8/ohMBZ5JwzYyu+POU/v879R01s=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KeyInf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ecurityTokenRefer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Reference URI=#1 ValueType=UsernameToke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Body Id=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tockQuoteReque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ymbol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ymbol&gt;"FABRIKAM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ymbol&gt;"CONTOS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uring SOAP Messag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865840" y="1179360"/>
            <a:ext cx="3076560" cy="943200"/>
          </a:xfrm>
          <a:prstGeom prst="wedgeRectCallout">
            <a:avLst>
              <a:gd name="adj1" fmla="val -77606"/>
              <a:gd name="adj2" fmla="val 7424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UsernameToke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assumes both parties know Alice’s secret passwor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50120" y="2727360"/>
            <a:ext cx="2555640" cy="985680"/>
          </a:xfrm>
          <a:prstGeom prst="wedgeRectCallout">
            <a:avLst>
              <a:gd name="adj1" fmla="val -55837"/>
              <a:gd name="adj2" fmla="val 10297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igestValu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is a cryptographic hash of the URI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3560" y="5584680"/>
            <a:ext cx="3284280" cy="916200"/>
          </a:xfrm>
          <a:prstGeom prst="wedgeRectCallout">
            <a:avLst>
              <a:gd name="adj1" fmla="val -51837"/>
              <a:gd name="adj2" fmla="val -14133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hmacsha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ignedInfo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 where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sha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nonc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create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320" y="2278080"/>
            <a:ext cx="2469960" cy="2004840"/>
          </a:xfrm>
          <a:prstGeom prst="wedgeRectCallout">
            <a:avLst>
              <a:gd name="adj1" fmla="val 15361"/>
              <a:gd name="adj2" fmla="val -87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curity&gt; header defined by OASI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S-Security 200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cludes identity tokens, signatures, encrypted messag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2400" y="4764240"/>
            <a:ext cx="2207880" cy="1717560"/>
          </a:xfrm>
          <a:prstGeom prst="wedgeRectCallout">
            <a:avLst>
              <a:gd name="adj1" fmla="val -7870"/>
              <a:gd name="adj2" fmla="val -4269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zens of implementations, including Microsoft Web Services Enhancements (W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acks on SOAP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61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services vulnerable to same sorts of attacks as conventional websi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overruns, denial of service, SQL injection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concerns: flexible, XML-based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rvices developers can design and deplo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ir own application-specific security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message format open to rewriting at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ch like classic active attackers (Needham-Schroeder ’78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nent can redirect, replay, modify, imperson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: message processing is driven by a flexibl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-structured message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ility is usually bad for secur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have found a range of problems in sample cod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motivating our research on theory an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56:09Z</dcterms:created>
  <dc:creator/>
  <dc:description/>
  <dc:language>en-US</dc:language>
  <cp:lastModifiedBy/>
  <dcterms:modified xsi:type="dcterms:W3CDTF">2005-03-21T12:01:39Z</dcterms:modified>
  <cp:revision>356</cp:revision>
  <dc:subject/>
  <dc:title>A Semantics for Web Services Security</dc:title>
</cp:coreProperties>
</file>